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5589720"/>
            <a:ext cx="9325080" cy="136836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9239400" cy="19890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2948040" y="333360"/>
            <a:ext cx="3278160" cy="1336680"/>
            <a:chOff x="2948040" y="333360"/>
            <a:chExt cx="3278160" cy="1336680"/>
          </a:xfrm>
        </p:grpSpPr>
        <p:sp>
          <p:nvSpPr>
            <p:cNvPr id="45" name="AutoShape 5"/>
            <p:cNvSpPr/>
            <p:nvPr/>
          </p:nvSpPr>
          <p:spPr>
            <a:xfrm>
              <a:off x="2948040" y="333360"/>
              <a:ext cx="3278160" cy="1336680"/>
            </a:xfrm>
            <a:prstGeom prst="roundRect">
              <a:avLst>
                <a:gd name="adj" fmla="val 116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2948040" y="333360"/>
              <a:ext cx="327816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199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5000" indent="-4050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1440" indent="-367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7880" indent="-33084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1400" indent="-33084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67840" indent="-29376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sql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pmyadmin.net/" TargetMode="External"/><Relationship Id="rId2" Type="http://schemas.openxmlformats.org/officeDocument/2006/relationships/hyperlink" Target="http://localhost/phpmyadmin/" TargetMode="External"/><Relationship Id="rId3" Type="http://schemas.openxmlformats.org/officeDocument/2006/relationships/hyperlink" Target="http://localhost/mysq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"/>
                <a:ea typeface="Arial"/>
              </a:rPr>
              <a:t>Connessione con MySQL</a:t>
            </a:r>
            <a:endParaRPr b="1" lang="en-US" sz="48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phpmyadmin1"/>
          <p:cNvPicPr/>
          <p:nvPr/>
        </p:nvPicPr>
        <p:blipFill>
          <a:blip r:embed="rId1"/>
          <a:stretch/>
        </p:blipFill>
        <p:spPr>
          <a:xfrm>
            <a:off x="519120" y="219240"/>
            <a:ext cx="8209080" cy="67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HPMyAdmin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ySQL viene configurato di default con un utente “root” amministratore. Può essere configurato aggiungendo altri utenti e concedendo diritti sui databas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on il login di root possiamo accedere all’interfaccia di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phpmyadmin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, da dove possiamo creare nuovi database, nuove tabelle, inserire dati, eseguire query e tante altre funzionalità più avanz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20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reazione di un databas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phpmyadmin2"/>
          <p:cNvPicPr/>
          <p:nvPr/>
        </p:nvPicPr>
        <p:blipFill>
          <a:blip r:embed="rId1"/>
          <a:stretch/>
        </p:blipFill>
        <p:spPr>
          <a:xfrm>
            <a:off x="806400" y="606600"/>
            <a:ext cx="78184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9760" y="196560"/>
            <a:ext cx="792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reazione di una tabell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134" name="Picture 3" descr="phpmyadmin3"/>
          <p:cNvPicPr/>
          <p:nvPr/>
        </p:nvPicPr>
        <p:blipFill>
          <a:blip r:embed="rId1"/>
          <a:stretch/>
        </p:blipFill>
        <p:spPr>
          <a:xfrm>
            <a:off x="520560" y="773280"/>
            <a:ext cx="7580520" cy="62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phpmyadmin4"/>
          <p:cNvPicPr/>
          <p:nvPr/>
        </p:nvPicPr>
        <p:blipFill>
          <a:blip r:embed="rId1"/>
          <a:stretch/>
        </p:blipFill>
        <p:spPr>
          <a:xfrm>
            <a:off x="411120" y="163440"/>
            <a:ext cx="7813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HP e My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HPMyAdmin è uno strumento facile e intuitivo per effettuare alcune operazioni di gestione del server MySQ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3399ff"/>
                </a:solidFill>
                <a:latin typeface="Arial"/>
              </a:rPr>
              <a:t>Tutte le operazioni possibili da PHPMyAdmin si possono comunque fare anche da script PHP tramite opportuni comandi.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PHPMyAdmin è possibile visualizzare il codice PHP di ogni operaz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8960" y="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HP e My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11200"/>
            <a:ext cx="7920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accesso a MySQL server da PHP si può effettuare con semplici funzion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sequenza dei passi da effettuare è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ffettuare una connessione al serv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lezionare il DB o crearlo se non esist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guire la/le query (creare tabelle, inserire o selezionare dati…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ssegnare le eventuali righe risultanti ad un opportuno array e visualizzare il risultat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6120" y="0"/>
            <a:ext cx="792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1. Connessione al server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4960" y="795240"/>
            <a:ext cx="79203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3399ff"/>
                </a:solidFill>
                <a:latin typeface="Arial"/>
              </a:rPr>
              <a:t>Devo dire a quale server voglio rivolgere le mie “domand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&lt;?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 // setto i parametri della connessi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host="localhost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user="root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dbpass=“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XXXXXXX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//connessione al 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$conn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=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mysql_connect($dbhost,$dbuser,$dbpass) or die("impossibile accedere"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560760" y="2511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st che ospita il server My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254400" y="3233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726000" y="38149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i va settata la pass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5854680"/>
            <a:ext cx="44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riabile che contiene l’ID della conne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770040" y="5204880"/>
            <a:ext cx="141120" cy="723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603360" y="4654440"/>
            <a:ext cx="933480" cy="525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3880" y="185400"/>
            <a:ext cx="7920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2. Creare un nuovo databas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1960" y="1263600"/>
            <a:ext cx="84060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abilito il server a cui rivolgermi gli devo comunicare quale DB mi interessa creare o consult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$dbname=“chiaradb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//prepariamo la query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 in SQ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$sql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="CREATE DATABASE $dbname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// stampa di controllo, verifico se ho scritto be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cho "query SQL: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$sql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//esecuzione della qu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mysql_query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($sql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,$conn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 or die( " Errore orrore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!!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" . mysql_error(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920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3a. Creazione di una tabell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128240"/>
            <a:ext cx="792000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reato il DB, lo seleziono e inizio a creare le tabel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//selezioniamo il database su cui creare la tabell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mysql_select_db($dbname,$con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//prepariamo la 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3399ff"/>
                </a:solidFill>
                <a:latin typeface="Arial"/>
              </a:rPr>
              <a:t>$sql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=“CREATE TABLE primatabella(Progressivo int PRIMARY KEY, Nome varchar(40), Cognome varchar(40), Telefono varchar(20))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// stampa di controll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echo "query SQL: </a:t>
            </a:r>
            <a:r>
              <a:rPr b="1" lang="it-IT" sz="1800" spc="-1" strike="noStrike">
                <a:solidFill>
                  <a:srgbClr val="3399ff"/>
                </a:solidFill>
                <a:latin typeface="Arial"/>
              </a:rPr>
              <a:t>$sql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//esecuzione della 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mysql_query</a:t>
            </a:r>
            <a:r>
              <a:rPr b="1" lang="it-IT" sz="1800" spc="-1" strike="noStrike">
                <a:solidFill>
                  <a:srgbClr val="3399ff"/>
                </a:solidFill>
                <a:latin typeface="Arial"/>
              </a:rPr>
              <a:t>($sql</a:t>
            </a: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,$conn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) or die( " Errore orrore" . mysql_error()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2880" y="184320"/>
            <a:ext cx="79203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ersistenza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7160" y="1287000"/>
            <a:ext cx="819612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Le applicazioni web complesse hanno bisogno di un supporto alla </a:t>
            </a:r>
            <a:r>
              <a:rPr b="1" lang="it-IT" sz="2400" spc="-1" strike="noStrike">
                <a:solidFill>
                  <a:srgbClr val="ff0000"/>
                </a:solidFill>
                <a:latin typeface="Arial Unicode MS"/>
              </a:rPr>
              <a:t>persistenza dei dati</a:t>
            </a:r>
            <a:r>
              <a:rPr b="1" lang="it-IT" sz="2400" spc="-1" strike="noStrike">
                <a:solidFill>
                  <a:srgbClr val="cc0000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Abbiamo visto come i cookies e le sessioni realizzino una forma di mantenimento dello stato, tra pagine delle stessa sessione o tra visite success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La quantita’ di dati che possiamo gestire con sessioni e cookie è </a:t>
            </a:r>
            <a:r>
              <a:rPr b="1" lang="it-IT" sz="2400" spc="-1" strike="noStrike">
                <a:solidFill>
                  <a:srgbClr val="ff0000"/>
                </a:solidFill>
                <a:latin typeface="Arial Unicode MS"/>
              </a:rPr>
              <a:t>molto limitata</a:t>
            </a:r>
            <a:r>
              <a:rPr b="1" lang="it-IT" sz="2400" spc="-1" strike="noStrike">
                <a:solidFill>
                  <a:srgbClr val="cc0000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Nelle applicazioni web alcuni tipi di dati devono avere una persistenza che va oltre i quella dei cookie e delle sessioni e devono poter essere aggiornati dai gestori del s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6360" y="0"/>
            <a:ext cx="7920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atabase e tabel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ramite i passi precedenti abbiamo creato un nuovo database chiamato </a:t>
            </a:r>
            <a:r>
              <a:rPr b="1" lang="it-IT" sz="2200" spc="-1" strike="noStrike">
                <a:solidFill>
                  <a:srgbClr val="3399ff"/>
                </a:solidFill>
                <a:latin typeface="Arial"/>
              </a:rPr>
              <a:t>chiaradb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e dentro questo database abbiamo creato una tabella </a:t>
            </a:r>
            <a:r>
              <a:rPr b="1" lang="it-IT" sz="2200" spc="-1" strike="noStrike">
                <a:solidFill>
                  <a:srgbClr val="3399ff"/>
                </a:solidFill>
                <a:latin typeface="Arial"/>
              </a:rPr>
              <a:t>prima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57160" y="3692520"/>
            <a:ext cx="3326040" cy="26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285920" y="5238720"/>
            <a:ext cx="958680" cy="8571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146240" y="3949560"/>
            <a:ext cx="1314360" cy="94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714760" y="5203800"/>
            <a:ext cx="1222200" cy="9381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3080" y="310824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ySQL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343240" y="38163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ara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325520" y="4297320"/>
            <a:ext cx="503280" cy="538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360440" y="44467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365120" y="458640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1363680" y="47131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577880" y="429732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484360" y="4529160"/>
            <a:ext cx="16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atab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 flipH="1" flipV="1">
            <a:off x="1886040" y="4618080"/>
            <a:ext cx="65088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356000" y="3659040"/>
            <a:ext cx="44816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aula H avremo un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unico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MySQL server e tanti DB quanti sono i nostro login utente, dovremo quindi creare solo le tabelle nel nostro D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662200" y="56419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ente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231920" y="56037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ent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3b. Inserimento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//inseriamo i da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INSERT INTO primatabella VALUES (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,'chiara','renso','050')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mysql_query($sql,$conn)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or die( " Errore orrore" .mysql_error()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ta: se stiamo usando un campo auto_increment (contatore) e quindi il valore viene omesso, occorre specificare in modo esplicito il nome dei campi nella INSER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INSERT INTO primatabella (Nome, Cognome, Telefono) VALUES ('chiara','renso','050’)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3c. Modifica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6000" y="1628640"/>
            <a:ext cx="8837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//modifichiamo i da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“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UPDATE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primatabella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SET nome=‘pluto’ WHERE Progressivo=1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mysql_query($sql,$conn)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or die( " Errore orrore" .mysql_error()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3d. Query di selezio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&lt;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99ccff"/>
                </a:solidFill>
                <a:latin typeface="Arial"/>
              </a:rPr>
              <a:t>$sql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"select * from primatabella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mysql_query(</a:t>
            </a:r>
            <a:r>
              <a:rPr b="1" lang="en-US" sz="2200" spc="-1" strike="noStrike">
                <a:solidFill>
                  <a:srgbClr val="99ccff"/>
                </a:solidFill>
                <a:latin typeface="Arial"/>
              </a:rPr>
              <a:t>$sql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,$conn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. // accediamo alle righe ottenute in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$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Records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27040"/>
            <a:ext cx="38671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righe risultanti da mysql_query sono rappresentate come array di arr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bbiamo tre costrutti per accedere le righe e “catturare” i recor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ysql_fetch_r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ysql_fetch_ass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ysql_fetch_arr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38680" y="2835360"/>
            <a:ext cx="4405320" cy="2744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751280" y="349236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751280" y="4211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4751280" y="493236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5688000" y="2817720"/>
            <a:ext cx="0" cy="276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6767640" y="2843280"/>
            <a:ext cx="0" cy="27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7920000" y="2862360"/>
            <a:ext cx="0" cy="27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9144000" y="285444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822920" y="2411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830920" y="241128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6838920" y="2411280"/>
            <a:ext cx="100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8062920" y="241128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967280" y="2987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4967280" y="3708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4967280" y="4427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967280" y="5148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759280" y="3059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r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5688000" y="3708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Giusep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5688000" y="4427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r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5688000" y="5111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ui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838920" y="3059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838920" y="3708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Bianch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838920" y="4427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Ver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6767640" y="5111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Gial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4089240" y="13874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=mysql_query($sql,$con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3379680" y="4357800"/>
            <a:ext cx="113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reco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4329000" y="4606920"/>
            <a:ext cx="3794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31"/>
          <p:cNvSpPr/>
          <p:nvPr/>
        </p:nvSpPr>
        <p:spPr>
          <a:xfrm>
            <a:off x="4506840" y="4251240"/>
            <a:ext cx="4637160" cy="70812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5837400" y="23954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6853320" y="2408400"/>
            <a:ext cx="10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gn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8053560" y="23814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600" y="0"/>
            <a:ext cx="83710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Arial Unicode MS"/>
              </a:rPr>
              <a:t>4. Accediamo alle righe di una tabella – fetch_row</a:t>
            </a:r>
            <a:endParaRPr b="1" lang="en-US" sz="28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511280"/>
            <a:ext cx="79200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mysql_query($sql,$conn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while (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ord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mysql_fetch_row(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ID: $records[0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Nome: $records[1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Cognome:$records[2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705640" y="5468760"/>
            <a:ext cx="34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dice dell’array (posizione del ca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4275000" y="4889520"/>
            <a:ext cx="831960" cy="5666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 flipH="1" flipV="1">
            <a:off x="4610160" y="5448240"/>
            <a:ext cx="1147680" cy="347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1440" y="248760"/>
            <a:ext cx="851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Arial Unicode MS"/>
              </a:rPr>
              <a:t>Accedere alle righe di una tabella – fetch_assoc </a:t>
            </a:r>
            <a:endParaRPr b="1" lang="en-US" sz="28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7160" y="1287000"/>
            <a:ext cx="819612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mysql_query($sql,$conn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while (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ord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mysql_fetch_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assoc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ID: $records[Progressivo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Nome: $records[Nome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Cognome:$records[Cognome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4538520" y="4595760"/>
            <a:ext cx="1451160" cy="6177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348160" y="561168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ome del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H="1" flipV="1">
            <a:off x="5235480" y="5211360"/>
            <a:ext cx="820800" cy="4921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9800" y="174600"/>
            <a:ext cx="8190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Arial Unicode MS"/>
              </a:rPr>
              <a:t>Accedere alle righe di una tabella – fetch_array</a:t>
            </a:r>
            <a:endParaRPr b="1" lang="en-US" sz="28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$re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mysql_query($sql,$conn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while (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ord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mysql_fetch_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array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($res)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ID: $records[0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Nome: $records[Nome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Cognome:$records[Cognome] &lt;BR&gt;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4597560" y="4735440"/>
            <a:ext cx="1450800" cy="6177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387600" y="3498840"/>
            <a:ext cx="719280" cy="5493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600880" y="56466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ome del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5278320" y="357660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dice dell’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H="1" flipV="1">
            <a:off x="5383080" y="5325840"/>
            <a:ext cx="789120" cy="35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3772080" y="3807000"/>
            <a:ext cx="1542960" cy="147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9720" y="-360"/>
            <a:ext cx="7920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ntrollo numero record e risposta vuot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948960"/>
            <a:ext cx="7920000" cy="54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$rows=mysql_num_rows($res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cho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“sono stati trovati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rows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record”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if ($rows==0) {</a:t>
            </a:r>
            <a:r>
              <a:rPr b="1" lang="it-IT" sz="1800" spc="-1" strike="noStrike">
                <a:solidFill>
                  <a:srgbClr val="3399ff"/>
                </a:solidFill>
                <a:latin typeface="Arial"/>
              </a:rPr>
              <a:t> // controllo se la risposta è vuo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echo "non ci sono record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} else {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// altrimenti li visualizz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while (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r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ecords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ysql_fetch_</a:t>
            </a: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assoc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($res)</a:t>
            </a: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echo “ID: $records[Progressivo] &lt;BR&gt;”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echo “Nome: $records[Nome] &lt;BR&gt;”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echo “Cognome:$records[Cognome] &lt;BR&gt;”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}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244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isualizzare un numero limitato di ri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ando la risposte sono molte può risultare utile visualizzare nelle pagine web solo alcuni record alla volta. Questo può essere ottenuto con il costrutto SQL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LIMIT min, max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MIT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questo caso il database visualizzerà solo i record dal primo (indice 0) al 10. Il primo argomento della LIMIT è l’offset ( la riga di partenza) l’altro e’ il massimo numero di righe da ritorna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38040" y="828720"/>
            <a:ext cx="880596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 parametric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’ tipico combinare query SQL con valori di variabili, in modo da renderle parametrich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$varnome=“chiara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where nome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=$varnome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$sq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es=mysql_query($sql,$conn)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r die( “Errore!" . mysql_error(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...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280" y="0"/>
            <a:ext cx="792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 parametric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1393920"/>
            <a:ext cx="7920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ipicamente i valori delle variabili possono essere instanziati da una form, da cookies, sessioni o derivare da una query preced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$varnome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=$_REQUEST[‘nome’]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sql="select * from primatabella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where nome=$varnome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$sq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res=mysql_query($sql,$conn)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r die( “Errore!" . mysql_error());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.....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sservaz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creazione di database e tabell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viene fatta una sola volta “offline” , occorre effettuarle quindi da phpmyadmin o con degli script php costruiti e richiamati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ad-hoc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imangono di competenza dell’applicazione le operazioni “a regime” di inserimento record, selezione, cancellazione, modific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rcRect l="0" t="0" r="0" b="3491"/>
          <a:stretch/>
        </p:blipFill>
        <p:spPr>
          <a:xfrm>
            <a:off x="0" y="557280"/>
            <a:ext cx="942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0" b="3241"/>
          <a:stretch/>
        </p:blipFill>
        <p:spPr>
          <a:xfrm>
            <a:off x="0" y="60480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697800" y="1474920"/>
            <a:ext cx="1474560" cy="3004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222120"/>
            <a:ext cx="6219720" cy="597240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6310440" y="3052800"/>
            <a:ext cx="50148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6343560" y="3236760"/>
            <a:ext cx="473040" cy="1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780080" y="220680"/>
            <a:ext cx="3890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vantgarde"/>
              </a:rPr>
              <a:t>Architettura Server-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325760" y="736560"/>
            <a:ext cx="1363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Eventuali p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aramet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6770520" y="2227320"/>
            <a:ext cx="2167200" cy="1652400"/>
            <a:chOff x="6770520" y="2227320"/>
            <a:chExt cx="2167200" cy="1652400"/>
          </a:xfrm>
        </p:grpSpPr>
        <p:sp>
          <p:nvSpPr>
            <p:cNvPr id="99" name="AutoShape 9"/>
            <p:cNvSpPr/>
            <p:nvPr/>
          </p:nvSpPr>
          <p:spPr>
            <a:xfrm>
              <a:off x="6770520" y="2227320"/>
              <a:ext cx="1306800" cy="1652400"/>
            </a:xfrm>
            <a:custGeom>
              <a:avLst/>
              <a:gdLst>
                <a:gd name="textAreaLeft" fmla="*/ 720 w 1306800"/>
                <a:gd name="textAreaRight" fmla="*/ 1306080 w 1306800"/>
                <a:gd name="textAreaTop" fmla="*/ 720 h 1652400"/>
                <a:gd name="textAreaBottom" fmla="*/ 1651680 h 1652400"/>
              </a:gdLst>
              <a:ahLst/>
              <a:rect l="textAreaLeft" t="textAreaTop" r="textAreaRight" b="textAreaBottom"/>
              <a:pathLst>
                <a:path w="21600" h="27311">
                  <a:moveTo>
                    <a:pt x="41" y="0"/>
                  </a:moveTo>
                  <a:arcTo wR="41" hR="41" stAng="16200000" swAng="-5400000"/>
                  <a:lnTo>
                    <a:pt x="0" y="27270"/>
                  </a:lnTo>
                  <a:arcTo wR="41" hR="41" stAng="10800000" swAng="-5400000"/>
                  <a:lnTo>
                    <a:pt x="21559" y="27311"/>
                  </a:lnTo>
                  <a:arcTo wR="41" hR="41" stAng="5400000" swAng="-5400000"/>
                  <a:lnTo>
                    <a:pt x="21600" y="41"/>
                  </a:lnTo>
                  <a:arcTo wR="41" hR="41" stAng="0" swAng="-5400000"/>
                  <a:close/>
                </a:path>
              </a:pathLst>
            </a:cu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6778800" y="2244600"/>
              <a:ext cx="1184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vantgarde"/>
                </a:rPr>
                <a:t>Elabor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" name="Group 11"/>
            <p:cNvGrpSpPr/>
            <p:nvPr/>
          </p:nvGrpSpPr>
          <p:grpSpPr>
            <a:xfrm>
              <a:off x="6997680" y="2681280"/>
              <a:ext cx="531720" cy="703440"/>
              <a:chOff x="6997680" y="2681280"/>
              <a:chExt cx="531720" cy="703440"/>
            </a:xfrm>
          </p:grpSpPr>
          <p:sp>
            <p:nvSpPr>
              <p:cNvPr id="102" name="AutoShape 12"/>
              <p:cNvSpPr/>
              <p:nvPr/>
            </p:nvSpPr>
            <p:spPr>
              <a:xfrm>
                <a:off x="6997680" y="2681280"/>
                <a:ext cx="531720" cy="703440"/>
              </a:xfrm>
              <a:custGeom>
                <a:avLst/>
                <a:gdLst>
                  <a:gd name="textAreaLeft" fmla="*/ 360 w 531720"/>
                  <a:gd name="textAreaRight" fmla="*/ 531360 w 531720"/>
                  <a:gd name="textAreaTop" fmla="*/ 360 h 703440"/>
                  <a:gd name="textAreaBottom" fmla="*/ 703080 h 703440"/>
                </a:gdLst>
                <a:ahLst/>
                <a:rect l="textAreaLeft" t="textAreaTop" r="textAreaRight" b="textAreaBottom"/>
                <a:pathLst>
                  <a:path w="21600" h="28571">
                    <a:moveTo>
                      <a:pt x="64" y="0"/>
                    </a:moveTo>
                    <a:arcTo wR="64" hR="64" stAng="16200000" swAng="-5400000"/>
                    <a:lnTo>
                      <a:pt x="0" y="28507"/>
                    </a:lnTo>
                    <a:arcTo wR="64" hR="64" stAng="10800000" swAng="-5400000"/>
                    <a:lnTo>
                      <a:pt x="21536" y="28571"/>
                    </a:lnTo>
                    <a:arcTo wR="64" hR="64" stAng="5400000" swAng="-5400000"/>
                    <a:lnTo>
                      <a:pt x="21600" y="64"/>
                    </a:lnTo>
                    <a:arcTo wR="64" hR="64" stAng="0" swAng="-5400000"/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7066080" y="2938680"/>
                <a:ext cx="415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14"/>
              <p:cNvSpPr/>
              <p:nvPr/>
            </p:nvSpPr>
            <p:spPr>
              <a:xfrm>
                <a:off x="7058160" y="2822760"/>
                <a:ext cx="430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AutoShape 15"/>
            <p:cNvSpPr/>
            <p:nvPr/>
          </p:nvSpPr>
          <p:spPr>
            <a:xfrm>
              <a:off x="8402760" y="2752560"/>
              <a:ext cx="534960" cy="5972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7869240" y="2774880"/>
              <a:ext cx="501480" cy="174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 flipV="1">
              <a:off x="7970760" y="3266640"/>
              <a:ext cx="419040" cy="174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7878600" y="2373480"/>
              <a:ext cx="105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SELECT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7674120" y="3338640"/>
              <a:ext cx="307800" cy="33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7777080" y="3349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878600" y="33368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7683480" y="341136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7088040" y="3030480"/>
              <a:ext cx="88920" cy="1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 flipH="1" flipV="1">
              <a:off x="7386480" y="3216240"/>
              <a:ext cx="2476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 Box 25"/>
          <p:cNvSpPr/>
          <p:nvPr/>
        </p:nvSpPr>
        <p:spPr>
          <a:xfrm>
            <a:off x="6696000" y="149688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33360" y="1968480"/>
            <a:ext cx="15210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686640" y="516564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V="1">
            <a:off x="7750080" y="3439800"/>
            <a:ext cx="914400" cy="1817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9440" y="0"/>
            <a:ext cx="7920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HP e Databas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79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ando i dati sono molti e la persistenza deve andare altre la sessione o la durata di un cookie conviene usare il supporto di un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base di da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HP fornisce delle funzioni per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accedere ai databas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, quindi per spedire query che vengono eseguite dal database e poi eventualmente ritornano una risposta come righe di una 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HP è tipicamente usato con MySQL, un database free opensource (community edition), liberamente scaricabile da </a:t>
            </a:r>
            <a:r>
              <a:rPr b="1" lang="it-IT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ysql.or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’ possibile accedere anche ad altri database (Postgres, access, oracle et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y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79200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ySQL è disponibile su tutte le piattaforme ed è realizzato come un server (quindi un servizio attivo che risponde su una porta) 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</a:t>
            </a:r>
            <a:r>
              <a:rPr b="1" lang="it-IT" sz="2000" spc="-1" strike="noStrike">
                <a:solidFill>
                  <a:srgbClr val="3399ff"/>
                </a:solidFill>
                <a:latin typeface="Arial"/>
              </a:rPr>
              <a:t>server MySQL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può essere configurato per gestire un certo </a:t>
            </a:r>
            <a:r>
              <a:rPr b="1" lang="it-IT" sz="2000" spc="-1" strike="noStrike">
                <a:solidFill>
                  <a:srgbClr val="3399ff"/>
                </a:solidFill>
                <a:latin typeface="Arial"/>
              </a:rPr>
              <a:t>numero di databas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, ognuno dei quali potrà gestire un certo </a:t>
            </a:r>
            <a:r>
              <a:rPr b="1" lang="it-IT" sz="2000" spc="-1" strike="noStrike">
                <a:solidFill>
                  <a:srgbClr val="3399ff"/>
                </a:solidFill>
                <a:latin typeface="Arial"/>
              </a:rPr>
              <a:t>numero di tabell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le quali potranno essere popolate con i </a:t>
            </a: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da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’interazione con il server MySQL può avvenire da riga di comando (shell) digitando i comandi, o le query SQL, per creare database, tabelle, inserire dati, fare ricerche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’interazione può avvenire anche tramite interfaccia grafica, ad esempio PhpMyAdm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HPMyAdmin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549440"/>
            <a:ext cx="79200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 client molto usato basato su una grafica user-friendly è PHPMyAdmin, una applicazione web fatta in PHP che permette di gestire MYSQL server via interfaccia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i può liberamente scaricare da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hpmyadmin.net/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si installa come applicazione PHP (quindi php deve essere installato e il web server deve essere attivo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’ già incluso in EasyPHP, MAMP e XAMM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e è installato sulla cartella di default del server web è tipicamente disponibile alla URL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localhost/phpmyadmin/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ppure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localhost/mysql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su Easyph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ara Renso</cp:lastModifiedBy>
  <dcterms:modified xsi:type="dcterms:W3CDTF">2010-05-09T13:51:47Z</dcterms:modified>
  <cp:revision>181</cp:revision>
  <dc:subject/>
  <dc:title>Laboratorio di Progettazione Web</dc:title>
</cp:coreProperties>
</file>